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1E9-E5CD-4158-8FA7-99AF006A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ED13-5875-4F6A-8731-423DFF1B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AE8F-FF1F-4FD3-ABF0-4832026E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BB3A-3509-4DB0-95A5-501E51DD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7C8-F14B-4294-A7B0-69C6F180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FA5-84FC-46E8-8381-BF820C66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39B1-ECAF-4AED-856F-7851FFEB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927-FC0B-4F1C-9960-E33298EF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A5CA-53D5-4455-BF51-E929C4BE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6BEE-1D87-47CE-9A39-36D0710A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39AC-E55D-4A49-91B6-B8271490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FF7E-C103-45A4-8E2A-51DCB76A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4F68-E885-46EF-AEDC-C9B1512AE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1.png"/><Relationship Id="rId12" Type="http://schemas.openxmlformats.org/officeDocument/2006/relationships/image" Target="../media/image2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9906" t="29557" r="21972" b="28258"/>
          <a:stretch/>
        </p:blipFill>
        <p:spPr>
          <a:xfrm>
            <a:off x="112699800" y="108127800"/>
            <a:ext cx="2882880" cy="320040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rcRect l="7499" t="4705" r="10009" b="5891"/>
          <a:stretch/>
        </p:blipFill>
        <p:spPr>
          <a:xfrm rot="20903400">
            <a:off x="111108600" y="111921480"/>
            <a:ext cx="2514600" cy="2171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21048600">
            <a:off x="112014000" y="114300000"/>
            <a:ext cx="1762200" cy="65736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 Irish 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656400">
            <a:off x="115442640" y="112242600"/>
            <a:ext cx="2340000" cy="1765440"/>
          </a:xfrm>
          <a:prstGeom prst="rect">
            <a:avLst/>
          </a:prstGeom>
          <a:ln w="57240">
            <a:solidFill>
              <a:srgbClr val="ff3399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rot="910200">
            <a:off x="114414480" y="105613200"/>
            <a:ext cx="2933640" cy="23162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rot="20989800">
            <a:off x="111099240" y="105727320"/>
            <a:ext cx="2400480" cy="207936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6"/>
          <a:srcRect l="49906" t="29557" r="21972" b="28258"/>
          <a:stretch/>
        </p:blipFill>
        <p:spPr>
          <a:xfrm>
            <a:off x="112852080" y="108280080"/>
            <a:ext cx="2882880" cy="320040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7"/>
          <a:srcRect l="7499" t="4705" r="10009" b="5891"/>
          <a:stretch/>
        </p:blipFill>
        <p:spPr>
          <a:xfrm rot="20903400">
            <a:off x="111261240" y="112074120"/>
            <a:ext cx="2514600" cy="2171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 rot="21048600">
            <a:off x="112166280" y="114452280"/>
            <a:ext cx="1762200" cy="65736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 Irish 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 rot="656400">
            <a:off x="115594920" y="112394880"/>
            <a:ext cx="2340000" cy="1765440"/>
          </a:xfrm>
          <a:prstGeom prst="rect">
            <a:avLst/>
          </a:prstGeom>
          <a:ln w="57240">
            <a:solidFill>
              <a:srgbClr val="ff3399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 rot="910200">
            <a:off x="114566760" y="105765480"/>
            <a:ext cx="2933640" cy="23162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 rot="20989800">
            <a:off x="111251520" y="105879600"/>
            <a:ext cx="2400480" cy="207972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11"/>
          <a:srcRect l="49906" t="29557" r="21972" b="28258"/>
          <a:stretch/>
        </p:blipFill>
        <p:spPr>
          <a:xfrm>
            <a:off x="113004720" y="108432720"/>
            <a:ext cx="2882880" cy="320040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12"/>
          <a:srcRect l="7499" t="4705" r="10009" b="5891"/>
          <a:stretch/>
        </p:blipFill>
        <p:spPr>
          <a:xfrm rot="20903400">
            <a:off x="111413520" y="112226400"/>
            <a:ext cx="2514600" cy="2171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 rot="21048600">
            <a:off x="112318920" y="114604920"/>
            <a:ext cx="1761840" cy="65700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 Irish 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 rot="656400">
            <a:off x="115747560" y="112547520"/>
            <a:ext cx="2340000" cy="1765080"/>
          </a:xfrm>
          <a:prstGeom prst="rect">
            <a:avLst/>
          </a:prstGeom>
          <a:ln w="57240">
            <a:solidFill>
              <a:srgbClr val="ff3399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 rot="910200">
            <a:off x="114719040" y="105918120"/>
            <a:ext cx="2933640" cy="23158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 rot="20989800">
            <a:off x="111404160" y="106032240"/>
            <a:ext cx="2400120" cy="207972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>
            <a:off x="1905120" y="76320"/>
            <a:ext cx="524196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4:38:09Z</dcterms:created>
  <dc:creator>Patrick Mooney</dc:creator>
  <dc:description/>
  <dc:language>en-US</dc:language>
  <cp:lastModifiedBy>Patrick Mooney</cp:lastModifiedBy>
  <dcterms:modified xsi:type="dcterms:W3CDTF">2009-04-14T14:41:48Z</dcterms:modified>
  <cp:revision>3</cp:revision>
  <dc:subject/>
  <dc:title>Slide 1</dc:title>
</cp:coreProperties>
</file>